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c2c84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1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A0A53-E234-45EF-BBD2-1A5D75FBC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9C7AE-9F6F-46DC-B3FB-892DDDBA1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BC14661A-E871-405A-AB9A-8B869A40A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A2D2A-C2A9-4551-A017-4795C00E895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B6441-19C5-455D-BCAD-6FB5D6A2B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BA102EB6-419D-4DFA-A7BB-5F3D40B5C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8FEB1-6D5C-4DA9-A55F-4CADCC04F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91AFDDD8-D5A5-43A4-818F-6B3AC9E80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D4682-1629-4F39-8873-2050418C7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809247F8-185F-4521-A776-A36907C34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79947-D006-423C-90C9-80B91DAC6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792490E1-59BE-48A2-B4C1-5EE8B97BF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9C74D-402E-443F-8DD3-FE4772585A7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E8E70-BF02-4141-A04D-2C3108677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DD7ADEB0-116C-4CD3-9F8A-BF97CD30A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E92BB-23A9-4E37-AC35-F6F02A66096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8A572-8F4E-4F12-8C51-565D36EE8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9941CDB3-AD66-49A7-864D-7F4497922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60D69-523E-4C94-B53E-A3981521B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399E8D99-273D-43E6-909A-DA39B7613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8442D-AAF4-414E-9CB6-4BE5484D8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5A51CEB5-CDF8-4211-B828-A096BAF0B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C69B7-0479-4179-BBA3-A46ED729DAA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45660-096F-40A8-A6C5-971EFAFAC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014EA0A0-A5CF-434F-9B45-A5AF83ABD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0C900-B3ED-440A-B95F-3DC27926DF3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0B29A-6614-4396-948D-D21B992E0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5DB9176B-9ED3-400A-9522-3C8EC53DB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75ED8-038D-4F0A-8C83-CAE553144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23FA0ECC-D80B-49A7-9F12-71F3BE877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36B9D-6D63-467B-B428-C755BE91A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59E10510-3ACD-44C1-8165-EF26D7A9D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79A77-F9DE-4660-AB72-BC5C8F421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5F40748E-BBD6-442F-9530-6058C87BC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F93C9-8F0B-4FDD-896F-FA04F9C7C5A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70682-9080-47A8-BDBD-2F2C784AE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26A493BD-1615-4C06-AC6B-F2D823002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54F8B-B7F6-4F4A-A51D-2976858D950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A75DA-D1BA-4444-A579-9E8A76C42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E8AA57E1-C1C3-4EB0-AEC0-26C93CD08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BDC58-EA92-4857-91A4-DD6EE5CB5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C8EC9541-E3BE-40F4-914F-11798DD42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ED932-5602-4C06-8403-8CB9D6769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D8793F3A-3F31-453C-8CDF-455182FD5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8D522-CB9B-4773-8ED3-C9B8FEB50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359FFDC8-A4E6-4575-9C8B-BE03CBAE3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D54D1-9354-4D61-A3E2-BDFD99435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FF3D22A4-0589-4134-9F03-664E9AE32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3CBBD-029C-404D-8C17-8390883F4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9F93A1FB-D7C2-4F3B-86E2-3F5363215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875F3-E515-4991-A53F-0CE5E73AE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1F3BDC0A-23BC-489F-822A-095F00DA4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87732-6927-4004-95EB-2CA696AF3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275C38CB-6D7D-43CA-9550-A3CC1596D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97C41-A465-4624-96B9-2B1FC1E55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A7786239-B448-4912-ADFC-E24952153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5F6D9-D51A-4E8A-A2AD-06CDA4A53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E310ADC3-DAD8-4AF7-A748-232134EC4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81698-408E-40B3-B2DF-2F0309ECC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206ED687-48E7-46D4-98B8-6BC7621ED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6E50F-4C90-4D7C-BBA2-027AAAD63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857CFCBB-27B6-4146-BA67-4875D9303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CFD1B-B4B1-4B90-B098-B968C61AC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485409B4-89F4-434F-AEBA-F20E68B52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70479-58B5-4436-B18D-033C3C038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BD26EFB9-7393-467F-9144-7167B4879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08DAE-DF87-4FCE-B268-C0D863D27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9C681EC4-A2FE-4A11-8D2A-58752F12B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44885-DDD4-4394-AB7F-CE40FBEF1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E381BA5C-4171-46A1-90C5-D2F59363A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6B8E3-DB24-454E-B2BA-93FB4A586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DC880803-9CCA-4066-A6D8-4E2FA2AA8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3C839-2C9D-4D22-A1CF-D878A9254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C9C2D134-B212-437B-9B4D-EC029E547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912F3-7F42-4F74-AE9F-CE389CAFA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6211A772-CEB4-4489-96C9-713DD9580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A76E3-E522-4A8A-8E79-4BCDB54D8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09C337B8-A38F-4B7A-869F-B6559C7FC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00AE2-25F3-4CA0-95EE-857F2537D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84FA3063-872E-465E-8544-56EB392FE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0CEAE-2CF7-49B3-8AAD-0F59640B9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3BE61C9A-C993-4AB2-A800-F008C347C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8C62E-4737-4889-BE8F-83E451C24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FDED5FA8-3B06-48B5-9BE7-960B8E7C6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B6B3B-A5A0-46E3-91E2-DD38FE18A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B5F71D61-FF15-4EFD-87AC-966CD8726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53C60-4758-4A21-BC83-70993128B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D01C5E26-7D31-476A-BDFE-6D9B4E6E0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859AC-4C1F-48BF-B5B3-6E99A1A71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45E90AC4-73ED-4582-B3F0-672488E77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A3EDA-9A36-4CA0-874E-F800314B7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0160C62A-D555-4EC5-B45E-75E5FF6AF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D4108-6F54-444D-9DE7-CB904F3EC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91F3973B-01E4-43DA-8E2A-C4A3133CC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B09CD-789E-428B-BC3D-1A9EFEDA2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5E391595-569D-4440-AC2F-F2484C61D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2BBAE-158B-4692-B119-E2D9BA08A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1184E358-3D05-4E21-B2D7-F169BFD99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FD02F-A1B5-4033-9BA5-8A06D60EA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3926AB0F-7E94-4195-BA72-01BA82311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EB253-4895-47C7-803B-D2862C01D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8BCCD92C-F16D-43B3-945D-CBB19C5E1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4B255-00C2-4741-A0D0-A2354BD98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A6D7D148-4E7A-44FC-B6DC-E5D8FB974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213D1-4C22-406E-80A1-D16146853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0A9B5BC7-6F51-4670-B513-D2F2E16EC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57048-C0FC-4466-911D-BDDEC86D9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FD5FAC44-193C-4DF7-92C2-B8618A6B8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1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1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1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1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1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1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1920"/>
                <a:tab algn="r" pos="869148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BE5551FD-21FD-4440-9CCC-EEF5D4DE111D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1920"/>
                <a:tab algn="r" pos="869148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461B826D-FC6A-48C3-98AC-E49181061742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" name="Picture 2" descr=""/>
          <p:cNvPicPr/>
          <p:nvPr/>
        </p:nvPicPr>
        <p:blipFill>
          <a:blip r:embed="rId2"/>
          <a:stretch/>
        </p:blipFill>
        <p:spPr>
          <a:xfrm>
            <a:off x="7596360" y="333360"/>
            <a:ext cx="89676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c2c84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1920"/>
                <a:tab algn="r" pos="869148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19025AB7-50A6-41BF-8B4C-5D58B216885A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7885080" y="189000"/>
            <a:ext cx="89712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1920"/>
                <a:tab algn="r" pos="869148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E9A2A5A9-4B5C-4A0A-9F7F-7A2406059559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2"/>
          <a:srcRect l="33153" t="14477" r="33707" b="0"/>
          <a:stretch/>
        </p:blipFill>
        <p:spPr>
          <a:xfrm>
            <a:off x="7885080" y="189000"/>
            <a:ext cx="8622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1920"/>
                <a:tab algn="r" pos="869148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23C0AABC-26C1-4A4C-87F5-B85D76297B2E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Line 2"/>
          <p:cNvSpPr/>
          <p:nvPr/>
        </p:nvSpPr>
        <p:spPr>
          <a:xfrm>
            <a:off x="457200" y="1341360"/>
            <a:ext cx="8143920" cy="1800"/>
          </a:xfrm>
          <a:prstGeom prst="line">
            <a:avLst/>
          </a:prstGeom>
          <a:ln cap="sq" w="38160">
            <a:solidFill>
              <a:srgbClr val="f0000c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7704000" y="120600"/>
            <a:ext cx="89712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c2c84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1920"/>
                <a:tab algn="r" pos="869148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7B0F7EC2-68FA-4A33-9979-F505A2BDA60A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7956720" y="115920"/>
            <a:ext cx="89676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"/>
          <p:cNvSpPr/>
          <p:nvPr/>
        </p:nvSpPr>
        <p:spPr>
          <a:xfrm>
            <a:off x="152280" y="6248520"/>
            <a:ext cx="3276720" cy="5331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11160" y="4254480"/>
            <a:ext cx="913608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HOT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Docent Dr. Igor Siman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152280" y="0"/>
            <a:ext cx="8928360" cy="2205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2340000" y="443700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-61920" y="2422440"/>
            <a:ext cx="91360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ysical medicine and rehabilit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9" name="Picture 10" descr=""/>
          <p:cNvPicPr/>
          <p:nvPr/>
        </p:nvPicPr>
        <p:blipFill>
          <a:blip r:embed="rId1"/>
          <a:stretch/>
        </p:blipFill>
        <p:spPr>
          <a:xfrm>
            <a:off x="3780000" y="222120"/>
            <a:ext cx="1584000" cy="205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INDICATIONS FOR HELI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convalescenc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ypochromic anemia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fections of the respiratory trac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soriasis; Acne vulgaris; Е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zem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uberculosis of the bon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joints, skin (quiet forms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chitis and osteomalacia; Osteoporos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generative rheumatic disea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sions of the peripheral motor neur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getative disorders etc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CONTRAINDICATIONS FOR HELI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ve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ung tuberculo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itions after cerebrovascular insul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otodermato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531720" y="2924280"/>
            <a:ext cx="836136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HROMOTHERAP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Line 2"/>
          <p:cNvSpPr/>
          <p:nvPr/>
        </p:nvSpPr>
        <p:spPr>
          <a:xfrm>
            <a:off x="531720" y="4292640"/>
            <a:ext cx="8143920" cy="1440"/>
          </a:xfrm>
          <a:prstGeom prst="line">
            <a:avLst/>
          </a:prstGeom>
          <a:ln cap="sq" w="38160">
            <a:solidFill>
              <a:srgbClr val="f0000c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Chrom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4" name="Text Box 2" descr=""/>
          <p:cNvPicPr/>
          <p:nvPr/>
        </p:nvPicPr>
        <p:blipFill>
          <a:blip r:embed="rId1"/>
          <a:stretch/>
        </p:blipFill>
        <p:spPr>
          <a:xfrm>
            <a:off x="384120" y="1481040"/>
            <a:ext cx="8442360" cy="49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Chrom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457200" y="1484280"/>
            <a:ext cx="82915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25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Verdana"/>
              </a:rPr>
              <a:t>COLD COLORS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blue, velvet and green) have a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edative effec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3667ed"/>
                </a:solidFill>
                <a:latin typeface="Verdana"/>
                <a:ea typeface="Microsoft YaHei"/>
              </a:rPr>
              <a:t>Blue color</a:t>
            </a:r>
            <a:r>
              <a:rPr b="1" lang="de-DE" sz="2200" spc="-1" strike="noStrike">
                <a:solidFill>
                  <a:srgbClr val="3667ed"/>
                </a:solidFill>
                <a:latin typeface="Verdana"/>
                <a:ea typeface="Microsoft YaHe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for color neutralization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(icterus neonatorum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; improves motor-coordinative processes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520018"/>
                </a:solidFill>
                <a:latin typeface="Verdana"/>
                <a:ea typeface="Microsoft YaHei"/>
              </a:rPr>
              <a:t>Velvet color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slows the breathing rhythm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but deepens and increases ventilation capacity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Verdana"/>
                <a:ea typeface="Microsoft YaHei"/>
              </a:rPr>
              <a:t>Green color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as a calming effect and improves anabolic process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531720" y="2924280"/>
            <a:ext cx="836136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LTRAVIOLET RAY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Line 2"/>
          <p:cNvSpPr/>
          <p:nvPr/>
        </p:nvSpPr>
        <p:spPr>
          <a:xfrm>
            <a:off x="531720" y="4292640"/>
            <a:ext cx="8143920" cy="1440"/>
          </a:xfrm>
          <a:prstGeom prst="line">
            <a:avLst/>
          </a:prstGeom>
          <a:ln cap="sq" w="38160">
            <a:solidFill>
              <a:srgbClr val="f0000c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UV RAY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128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Penetration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0,1-0,5 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mm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1" name="Group 3"/>
          <p:cNvGrpSpPr/>
          <p:nvPr/>
        </p:nvGrpSpPr>
        <p:grpSpPr>
          <a:xfrm>
            <a:off x="538200" y="1773360"/>
            <a:ext cx="8058600" cy="1906560"/>
            <a:chOff x="538200" y="1773360"/>
            <a:chExt cx="8058600" cy="1906560"/>
          </a:xfrm>
        </p:grpSpPr>
        <p:cxnSp>
          <p:nvCxnSpPr>
            <p:cNvPr id="292" name="AutoShape 4"/>
            <p:cNvCxnSpPr/>
            <p:nvPr/>
          </p:nvCxnSpPr>
          <p:spPr>
            <a:xfrm>
              <a:off x="538200" y="2131560"/>
              <a:ext cx="8058960" cy="108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</p:cxnSp>
        <p:cxnSp>
          <p:nvCxnSpPr>
            <p:cNvPr id="293" name="AutoShape 5"/>
            <p:cNvCxnSpPr/>
            <p:nvPr/>
          </p:nvCxnSpPr>
          <p:spPr>
            <a:xfrm>
              <a:off x="538200" y="2924640"/>
              <a:ext cx="8058960" cy="108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</p:cxnSp>
        <p:sp>
          <p:nvSpPr>
            <p:cNvPr id="294" name="Line 6"/>
            <p:cNvSpPr/>
            <p:nvPr/>
          </p:nvSpPr>
          <p:spPr>
            <a:xfrm>
              <a:off x="214632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5" name="Line 7"/>
            <p:cNvSpPr/>
            <p:nvPr/>
          </p:nvSpPr>
          <p:spPr>
            <a:xfrm>
              <a:off x="374328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6" name="Line 8"/>
            <p:cNvSpPr/>
            <p:nvPr/>
          </p:nvSpPr>
          <p:spPr>
            <a:xfrm>
              <a:off x="533700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" name="Line 9"/>
            <p:cNvSpPr/>
            <p:nvPr/>
          </p:nvSpPr>
          <p:spPr>
            <a:xfrm>
              <a:off x="693576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8" name="Text Box 10"/>
            <p:cNvSpPr/>
            <p:nvPr/>
          </p:nvSpPr>
          <p:spPr>
            <a:xfrm>
              <a:off x="3962880" y="1773360"/>
              <a:ext cx="11988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280 - 315 nm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9" name="Text Box 11"/>
            <p:cNvSpPr/>
            <p:nvPr/>
          </p:nvSpPr>
          <p:spPr>
            <a:xfrm>
              <a:off x="5547240" y="1773360"/>
              <a:ext cx="11988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315 - 380 nm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0" name="Text Box 12"/>
            <p:cNvSpPr/>
            <p:nvPr/>
          </p:nvSpPr>
          <p:spPr>
            <a:xfrm>
              <a:off x="2385360" y="1773360"/>
              <a:ext cx="12459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13,6 - 280 nm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1" name="Text Box 13"/>
            <p:cNvSpPr/>
            <p:nvPr/>
          </p:nvSpPr>
          <p:spPr>
            <a:xfrm>
              <a:off x="593280" y="3069360"/>
              <a:ext cx="80568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Х - RAYS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2" name="Text Box 14"/>
            <p:cNvSpPr/>
            <p:nvPr/>
          </p:nvSpPr>
          <p:spPr>
            <a:xfrm>
              <a:off x="7279920" y="3069360"/>
              <a:ext cx="767520" cy="61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VISIBLE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RAYS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3" name="Text Box 15"/>
            <p:cNvSpPr/>
            <p:nvPr/>
          </p:nvSpPr>
          <p:spPr>
            <a:xfrm>
              <a:off x="4220640" y="2364120"/>
              <a:ext cx="57708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UV-B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4" name="Text Box 16"/>
            <p:cNvSpPr/>
            <p:nvPr/>
          </p:nvSpPr>
          <p:spPr>
            <a:xfrm>
              <a:off x="5902200" y="2364120"/>
              <a:ext cx="5799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UV-А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5" name="Text Box 17"/>
            <p:cNvSpPr/>
            <p:nvPr/>
          </p:nvSpPr>
          <p:spPr>
            <a:xfrm>
              <a:off x="2655360" y="2364120"/>
              <a:ext cx="5709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UV-C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Transition of UV rays through atmosphe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Text Box 2"/>
          <p:cNvSpPr/>
          <p:nvPr/>
        </p:nvSpPr>
        <p:spPr>
          <a:xfrm>
            <a:off x="457200" y="1484280"/>
            <a:ext cx="5059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UVC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diatio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s almost completely absorb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y the ozone layer and by atmosphere oxygen (О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 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UVB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diation i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greatly absorb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y the ozone layer 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UVA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diation reaches great amounts in the earth’s surface, because it i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oorly absorb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y the ozone lay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Sources of UV ray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atur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Sunli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tifici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therma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- are not used in therap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luminisce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– quartz lamps with a mercury arc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QUARTZ LAM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4572000" y="2060640"/>
            <a:ext cx="3816360" cy="36878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" descr=""/>
          <p:cNvPicPr/>
          <p:nvPr/>
        </p:nvPicPr>
        <p:blipFill>
          <a:blip r:embed="rId2"/>
          <a:srcRect l="47903" t="-418" r="0" b="0"/>
          <a:stretch/>
        </p:blipFill>
        <p:spPr>
          <a:xfrm>
            <a:off x="826920" y="1916280"/>
            <a:ext cx="2563920" cy="413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BASIC TER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428760" y="1357200"/>
            <a:ext cx="84358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HOTOTHERAPY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use of the light energy of the Sun or artificial sources of ligh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ght belongs to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electromagnetic spectru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consists of the particles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hotons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ize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Е)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the light quantum depends on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ght quantum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Е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nck’s constant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=6,626 x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-34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J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c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ed of light travelling through a vacuum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300.000km/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λ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velengt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714240" y="3500280"/>
            <a:ext cx="754092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1"/>
          <p:cNvSpPr/>
          <p:nvPr/>
        </p:nvSpPr>
        <p:spPr>
          <a:xfrm>
            <a:off x="412920" y="63360"/>
            <a:ext cx="69944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800"/>
            </a:br>
            <a:r>
              <a:rPr b="1" lang="en-GB" sz="2200" spc="-1" strike="noStrike">
                <a:solidFill>
                  <a:srgbClr val="f0000c"/>
                </a:solidFill>
                <a:latin typeface="Verdana"/>
              </a:rPr>
              <a:t>BIOLOGICAL AND PHYSIOLOGICAL EFFECTS OF UV RADIATION</a:t>
            </a: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Text Box 2"/>
          <p:cNvSpPr/>
          <p:nvPr/>
        </p:nvSpPr>
        <p:spPr>
          <a:xfrm>
            <a:off x="395280" y="1557360"/>
            <a:ext cx="8424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9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otochemical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ffect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oking chemical reactions by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hange of the atomic arrangement and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Verdana"/>
              </a:rPr>
              <a:t>ratio in a molecule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vit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;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otosinthesis;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ree radicals are formed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nzymes are activated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lease of biologically active material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histamine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etylcholine etc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otoelectric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ffect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nge of the atomic balance by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emission of the electrons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ransition of colloids from the state of salt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ge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naturation of proteins and inactivation of enzymes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luorescenc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ffect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ability of some substances to reemit the absorbed Е of UV radiation of one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de-DE" sz="2000" spc="-1" strike="noStrike">
                <a:solidFill>
                  <a:srgbClr val="000000"/>
                </a:solidFill>
                <a:latin typeface="Verdana"/>
              </a:rPr>
              <a:t>365,5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Wood’s ligh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all directions, but with higher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for diagnostic purpo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f0000c"/>
                </a:solidFill>
                <a:uFillTx/>
                <a:latin typeface="Verdana"/>
              </a:rPr>
              <a:t>LOCAL EFFECTS OF UV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Text Box 2"/>
          <p:cNvSpPr/>
          <p:nvPr/>
        </p:nvSpPr>
        <p:spPr>
          <a:xfrm>
            <a:off x="457200" y="1844640"/>
            <a:ext cx="81439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3440" indent="-163440">
              <a:lnSpc>
                <a:spcPct val="15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163440"/>
                <a:tab algn="l" pos="620640"/>
                <a:tab algn="l" pos="1077840"/>
                <a:tab algn="l" pos="1535040"/>
                <a:tab algn="l" pos="1992240"/>
                <a:tab algn="l" pos="2449440"/>
                <a:tab algn="l" pos="2906640"/>
                <a:tab algn="l" pos="3363840"/>
                <a:tab algn="l" pos="3821040"/>
                <a:tab algn="l" pos="4278240"/>
                <a:tab algn="l" pos="4735440"/>
                <a:tab algn="l" pos="5192640"/>
                <a:tab algn="l" pos="5649840"/>
                <a:tab algn="l" pos="6107040"/>
                <a:tab algn="l" pos="6564240"/>
                <a:tab algn="l" pos="7021440"/>
                <a:tab algn="l" pos="7478640"/>
                <a:tab algn="l" pos="7935840"/>
                <a:tab algn="l" pos="8393040"/>
                <a:tab algn="l" pos="8850240"/>
                <a:tab algn="l" pos="930744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ythema– chemical; latent period 4-6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63440" indent="-163440">
              <a:lnSpc>
                <a:spcPct val="15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163440"/>
                <a:tab algn="l" pos="620640"/>
                <a:tab algn="l" pos="1077840"/>
                <a:tab algn="l" pos="1535040"/>
                <a:tab algn="l" pos="1992240"/>
                <a:tab algn="l" pos="2449440"/>
                <a:tab algn="l" pos="2906640"/>
                <a:tab algn="l" pos="3363840"/>
                <a:tab algn="l" pos="3821040"/>
                <a:tab algn="l" pos="4278240"/>
                <a:tab algn="l" pos="4735440"/>
                <a:tab algn="l" pos="5192640"/>
                <a:tab algn="l" pos="5649840"/>
                <a:tab algn="l" pos="6107040"/>
                <a:tab algn="l" pos="6564240"/>
                <a:tab algn="l" pos="7021440"/>
                <a:tab algn="l" pos="7478640"/>
                <a:tab algn="l" pos="7935840"/>
                <a:tab algn="l" pos="8393040"/>
                <a:tab algn="l" pos="8850240"/>
                <a:tab algn="l" pos="9307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gment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63440" indent="-16344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163440"/>
                <a:tab algn="l" pos="620640"/>
                <a:tab algn="l" pos="1077840"/>
                <a:tab algn="l" pos="1535040"/>
                <a:tab algn="l" pos="1992240"/>
                <a:tab algn="l" pos="2449440"/>
                <a:tab algn="l" pos="2906640"/>
                <a:tab algn="l" pos="3363840"/>
                <a:tab algn="l" pos="3821040"/>
                <a:tab algn="l" pos="4278240"/>
                <a:tab algn="l" pos="4735440"/>
                <a:tab algn="l" pos="5192640"/>
                <a:tab algn="l" pos="5649840"/>
                <a:tab algn="l" pos="6107040"/>
                <a:tab algn="l" pos="6564240"/>
                <a:tab algn="l" pos="7021440"/>
                <a:tab algn="l" pos="7478640"/>
                <a:tab algn="l" pos="7935840"/>
                <a:tab algn="l" pos="8393040"/>
                <a:tab algn="l" pos="8850240"/>
                <a:tab algn="l" pos="9307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imulation of cell regeneration and epythelizatio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due to increase in the number of the cell division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163440" indent="-163440">
              <a:lnSpc>
                <a:spcPct val="15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163440"/>
                <a:tab algn="l" pos="620640"/>
                <a:tab algn="l" pos="1077840"/>
                <a:tab algn="l" pos="1535040"/>
                <a:tab algn="l" pos="1992240"/>
                <a:tab algn="l" pos="2449440"/>
                <a:tab algn="l" pos="2906640"/>
                <a:tab algn="l" pos="3363840"/>
                <a:tab algn="l" pos="3821040"/>
                <a:tab algn="l" pos="4278240"/>
                <a:tab algn="l" pos="4735440"/>
                <a:tab algn="l" pos="5192640"/>
                <a:tab algn="l" pos="5649840"/>
                <a:tab algn="l" pos="6107040"/>
                <a:tab algn="l" pos="6564240"/>
                <a:tab algn="l" pos="7021440"/>
                <a:tab algn="l" pos="7478640"/>
                <a:tab algn="l" pos="7935840"/>
                <a:tab algn="l" pos="8393040"/>
                <a:tab algn="l" pos="8850240"/>
                <a:tab algn="l" pos="9307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ctericide and bacteriostatic effe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 u="sng">
                <a:solidFill>
                  <a:srgbClr val="f0000c"/>
                </a:solidFill>
                <a:uFillTx/>
                <a:latin typeface="Verdana"/>
              </a:rPr>
              <a:t>REFLEXIVE</a:t>
            </a: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 REACTIONS OF UV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hey occur via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cutivisceral reflex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ath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secretion of gastric juic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intestinal peristals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elimination of water and electrolites through the kidne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breathin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blood pressur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analgesi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hotophobia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 u="sng">
                <a:solidFill>
                  <a:srgbClr val="f0000c"/>
                </a:solidFill>
                <a:uFillTx/>
                <a:latin typeface="Verdana"/>
              </a:rPr>
              <a:t>GENERAL</a:t>
            </a: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 EFFECTS OF UV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250920" y="1268280"/>
            <a:ext cx="83613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Consequences of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photochemical effect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22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abolis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22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umber of Er and Hgb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22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umber of Le and immunit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22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version of provitamin D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itamin D3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22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rmalization of Ca and P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22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rmalization of glycemia, cholestero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22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imulation of the function of the thyroid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, adrenal and sexual gland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THERAPEUTIC EFFECT OF UV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7400" indent="-3366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100314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Analges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887400" indent="-336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100314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887400" indent="-3366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100314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Troph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887400" indent="-336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100314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887400" indent="-3366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100314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Improvement of regeneration (epithelization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DIVIDUAL SENSITIVITY TO UV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Pigment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Rac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Body region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Physiological conditions (menses, pregnancy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Diseases (DM, albinism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Use of photosensitize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PHOTOSENSITIZ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ndogenou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bile colo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porphirin, thyroxin, gonadotropic hormones, adrenalin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, insuli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xogenou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heavy metal sal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penicillin,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tetracyclin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sulphonamides, rivanol, eosin, gold salts etc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BIODO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Text Box 2"/>
          <p:cNvSpPr/>
          <p:nvPr/>
        </p:nvSpPr>
        <p:spPr>
          <a:xfrm>
            <a:off x="360360" y="1432080"/>
            <a:ext cx="81439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asure of individual and regional sensitiv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BIODOSI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is the </a:t>
            </a:r>
            <a:r>
              <a:rPr b="1" lang="de-DE" sz="2400" spc="-1" strike="noStrike">
                <a:solidFill>
                  <a:srgbClr val="ff0000"/>
                </a:solidFill>
                <a:latin typeface="Verdana"/>
              </a:rPr>
              <a:t>time interval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Verdana"/>
              </a:rPr>
              <a:t>[min]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of radiation during which UV rays from a known source, from a certain distance, cause just perceptible erythema on the skin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minimal erythemal dos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iodosimeter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with 5 fiel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with 3 fields, by Prof. Rotovic and Prof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Milicev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9" name="Group 3"/>
          <p:cNvGrpSpPr/>
          <p:nvPr/>
        </p:nvGrpSpPr>
        <p:grpSpPr>
          <a:xfrm>
            <a:off x="7104240" y="4098960"/>
            <a:ext cx="1000080" cy="1662120"/>
            <a:chOff x="7104240" y="4098960"/>
            <a:chExt cx="1000080" cy="1662120"/>
          </a:xfrm>
        </p:grpSpPr>
        <p:sp>
          <p:nvSpPr>
            <p:cNvPr id="330" name="Rectangle 4"/>
            <p:cNvSpPr/>
            <p:nvPr/>
          </p:nvSpPr>
          <p:spPr>
            <a:xfrm>
              <a:off x="7180200" y="4098960"/>
              <a:ext cx="924120" cy="166212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1" name="Rectangle 5"/>
            <p:cNvSpPr/>
            <p:nvPr/>
          </p:nvSpPr>
          <p:spPr>
            <a:xfrm>
              <a:off x="7304040" y="4241880"/>
              <a:ext cx="654120" cy="306360"/>
            </a:xfrm>
            <a:prstGeom prst="rect">
              <a:avLst/>
            </a:prstGeom>
            <a:solidFill>
              <a:srgbClr val="dddddd"/>
            </a:solidFill>
            <a:ln cap="sq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2" name="Rectangle 6"/>
            <p:cNvSpPr/>
            <p:nvPr/>
          </p:nvSpPr>
          <p:spPr>
            <a:xfrm>
              <a:off x="7304040" y="4765680"/>
              <a:ext cx="654120" cy="306360"/>
            </a:xfrm>
            <a:prstGeom prst="rect">
              <a:avLst/>
            </a:prstGeom>
            <a:solidFill>
              <a:srgbClr val="dddddd"/>
            </a:solidFill>
            <a:ln cap="sq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3" name="Rectangle 7"/>
            <p:cNvSpPr/>
            <p:nvPr/>
          </p:nvSpPr>
          <p:spPr>
            <a:xfrm>
              <a:off x="7304040" y="5251320"/>
              <a:ext cx="654120" cy="306360"/>
            </a:xfrm>
            <a:prstGeom prst="rect">
              <a:avLst/>
            </a:prstGeom>
            <a:solidFill>
              <a:srgbClr val="dddddd"/>
            </a:solidFill>
            <a:ln cap="sq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4" name="Text Box 8"/>
            <p:cNvSpPr/>
            <p:nvPr/>
          </p:nvSpPr>
          <p:spPr>
            <a:xfrm>
              <a:off x="7104240" y="4270320"/>
              <a:ext cx="591840" cy="12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2160" indent="-8424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2160"/>
                  <a:tab algn="l" pos="549360"/>
                  <a:tab algn="l" pos="1006560"/>
                  <a:tab algn="l" pos="1463760"/>
                  <a:tab algn="l" pos="1920960"/>
                  <a:tab algn="l" pos="2378160"/>
                  <a:tab algn="l" pos="2835360"/>
                  <a:tab algn="l" pos="3292560"/>
                  <a:tab algn="l" pos="3749760"/>
                  <a:tab algn="l" pos="4206960"/>
                  <a:tab algn="l" pos="4664160"/>
                  <a:tab algn="l" pos="5121360"/>
                  <a:tab algn="l" pos="5578560"/>
                  <a:tab algn="l" pos="6035760"/>
                  <a:tab algn="l" pos="6492960"/>
                  <a:tab algn="l" pos="6950160"/>
                  <a:tab algn="l" pos="7407360"/>
                  <a:tab algn="l" pos="7864560"/>
                  <a:tab algn="l" pos="8321760"/>
                  <a:tab algn="l" pos="8778960"/>
                  <a:tab algn="l" pos="9236160"/>
                  <a:tab algn="l" pos="9601200"/>
                  <a:tab algn="l" pos="10058400"/>
                  <a:tab algn="l" pos="10515600"/>
                </a:tabLst>
              </a:pPr>
              <a:r>
                <a:rPr b="1" lang="sr-Latn-CS" sz="1200" spc="-1" strike="noStrike">
                  <a:solidFill>
                    <a:srgbClr val="4d4d4d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marL="92160" indent="-8424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2160"/>
                  <a:tab algn="l" pos="549360"/>
                  <a:tab algn="l" pos="1006560"/>
                  <a:tab algn="l" pos="1463760"/>
                  <a:tab algn="l" pos="1920960"/>
                  <a:tab algn="l" pos="2378160"/>
                  <a:tab algn="l" pos="2835360"/>
                  <a:tab algn="l" pos="3292560"/>
                  <a:tab algn="l" pos="3749760"/>
                  <a:tab algn="l" pos="4206960"/>
                  <a:tab algn="l" pos="4664160"/>
                  <a:tab algn="l" pos="5121360"/>
                  <a:tab algn="l" pos="5578560"/>
                  <a:tab algn="l" pos="6035760"/>
                  <a:tab algn="l" pos="6492960"/>
                  <a:tab algn="l" pos="6950160"/>
                  <a:tab algn="l" pos="7407360"/>
                  <a:tab algn="l" pos="7864560"/>
                  <a:tab algn="l" pos="8321760"/>
                  <a:tab algn="l" pos="8778960"/>
                  <a:tab algn="l" pos="923616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marL="92160" indent="-8424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2160"/>
                  <a:tab algn="l" pos="549360"/>
                  <a:tab algn="l" pos="1006560"/>
                  <a:tab algn="l" pos="1463760"/>
                  <a:tab algn="l" pos="1920960"/>
                  <a:tab algn="l" pos="2378160"/>
                  <a:tab algn="l" pos="2835360"/>
                  <a:tab algn="l" pos="3292560"/>
                  <a:tab algn="l" pos="3749760"/>
                  <a:tab algn="l" pos="4206960"/>
                  <a:tab algn="l" pos="4664160"/>
                  <a:tab algn="l" pos="5121360"/>
                  <a:tab algn="l" pos="5578560"/>
                  <a:tab algn="l" pos="6035760"/>
                  <a:tab algn="l" pos="6492960"/>
                  <a:tab algn="l" pos="6950160"/>
                  <a:tab algn="l" pos="7407360"/>
                  <a:tab algn="l" pos="7864560"/>
                  <a:tab algn="l" pos="8321760"/>
                  <a:tab algn="l" pos="8778960"/>
                  <a:tab algn="l" pos="9236160"/>
                  <a:tab algn="l" pos="9601200"/>
                  <a:tab algn="l" pos="10058400"/>
                  <a:tab algn="l" pos="10515600"/>
                </a:tabLst>
              </a:pPr>
              <a:r>
                <a:rPr b="1" lang="sr-Latn-CS" sz="1200" spc="-1" strike="noStrike">
                  <a:solidFill>
                    <a:srgbClr val="4d4d4d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marL="92160" indent="-8424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2160"/>
                  <a:tab algn="l" pos="549360"/>
                  <a:tab algn="l" pos="1006560"/>
                  <a:tab algn="l" pos="1463760"/>
                  <a:tab algn="l" pos="1920960"/>
                  <a:tab algn="l" pos="2378160"/>
                  <a:tab algn="l" pos="2835360"/>
                  <a:tab algn="l" pos="3292560"/>
                  <a:tab algn="l" pos="3749760"/>
                  <a:tab algn="l" pos="4206960"/>
                  <a:tab algn="l" pos="4664160"/>
                  <a:tab algn="l" pos="5121360"/>
                  <a:tab algn="l" pos="5578560"/>
                  <a:tab algn="l" pos="6035760"/>
                  <a:tab algn="l" pos="6492960"/>
                  <a:tab algn="l" pos="6950160"/>
                  <a:tab algn="l" pos="7407360"/>
                  <a:tab algn="l" pos="7864560"/>
                  <a:tab algn="l" pos="8321760"/>
                  <a:tab algn="l" pos="8778960"/>
                  <a:tab algn="l" pos="923616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marL="92160" indent="-8424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2160"/>
                  <a:tab algn="l" pos="549360"/>
                  <a:tab algn="l" pos="1006560"/>
                  <a:tab algn="l" pos="1463760"/>
                  <a:tab algn="l" pos="1920960"/>
                  <a:tab algn="l" pos="2378160"/>
                  <a:tab algn="l" pos="2835360"/>
                  <a:tab algn="l" pos="3292560"/>
                  <a:tab algn="l" pos="3749760"/>
                  <a:tab algn="l" pos="4206960"/>
                  <a:tab algn="l" pos="4664160"/>
                  <a:tab algn="l" pos="5121360"/>
                  <a:tab algn="l" pos="5578560"/>
                  <a:tab algn="l" pos="6035760"/>
                  <a:tab algn="l" pos="6492960"/>
                  <a:tab algn="l" pos="6950160"/>
                  <a:tab algn="l" pos="7407360"/>
                  <a:tab algn="l" pos="7864560"/>
                  <a:tab algn="l" pos="8321760"/>
                  <a:tab algn="l" pos="8778960"/>
                  <a:tab algn="l" pos="9236160"/>
                  <a:tab algn="l" pos="9601200"/>
                  <a:tab algn="l" pos="10058400"/>
                  <a:tab algn="l" pos="10515600"/>
                </a:tabLst>
              </a:pPr>
              <a:r>
                <a:rPr b="1" lang="sr-Latn-CS" sz="1200" spc="-1" strike="noStrike">
                  <a:solidFill>
                    <a:srgbClr val="4d4d4d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DETERMINIATION OF BIODO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2050920" y="2060640"/>
            <a:ext cx="4492800" cy="38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TERPRETATION OF BIODO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38" name="Group 2"/>
          <p:cNvGrpSpPr/>
          <p:nvPr/>
        </p:nvGrpSpPr>
        <p:grpSpPr>
          <a:xfrm>
            <a:off x="539640" y="1557360"/>
            <a:ext cx="7985160" cy="5032440"/>
            <a:chOff x="539640" y="1557360"/>
            <a:chExt cx="7985160" cy="5032440"/>
          </a:xfrm>
        </p:grpSpPr>
        <p:sp>
          <p:nvSpPr>
            <p:cNvPr id="339" name="Rectangle 3"/>
            <p:cNvSpPr/>
            <p:nvPr/>
          </p:nvSpPr>
          <p:spPr>
            <a:xfrm>
              <a:off x="539640" y="1557360"/>
              <a:ext cx="2301120" cy="169488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Degree of erythema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0" name="Rectangle 4"/>
            <p:cNvSpPr/>
            <p:nvPr/>
          </p:nvSpPr>
          <p:spPr>
            <a:xfrm>
              <a:off x="2847240" y="1557360"/>
              <a:ext cx="3461400" cy="114120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Exposure time in min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1" name="Rectangle 5"/>
            <p:cNvSpPr/>
            <p:nvPr/>
          </p:nvSpPr>
          <p:spPr>
            <a:xfrm>
              <a:off x="6316920" y="1557360"/>
              <a:ext cx="2197800" cy="169488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Biodosis in </a:t>
              </a:r>
              <a:r>
                <a:rPr b="1" lang="en-US" sz="2000" spc="-1" strike="noStrike">
                  <a:solidFill>
                    <a:srgbClr val="ffffff"/>
                  </a:solidFill>
                  <a:latin typeface="Verdana"/>
                </a:rPr>
                <a:t>min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2" name="Rectangle 6"/>
            <p:cNvSpPr/>
            <p:nvPr/>
          </p:nvSpPr>
          <p:spPr>
            <a:xfrm>
              <a:off x="2847240" y="2707920"/>
              <a:ext cx="114912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3" name="Rectangle 7"/>
            <p:cNvSpPr/>
            <p:nvPr/>
          </p:nvSpPr>
          <p:spPr>
            <a:xfrm>
              <a:off x="4004280" y="270792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4" name="Rectangle 8"/>
            <p:cNvSpPr/>
            <p:nvPr/>
          </p:nvSpPr>
          <p:spPr>
            <a:xfrm>
              <a:off x="5158440" y="270792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5" name="Rectangle 9"/>
            <p:cNvSpPr/>
            <p:nvPr/>
          </p:nvSpPr>
          <p:spPr>
            <a:xfrm>
              <a:off x="539640" y="3261600"/>
              <a:ext cx="2301120" cy="54720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Mild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6" name="Rectangle 10"/>
            <p:cNvSpPr/>
            <p:nvPr/>
          </p:nvSpPr>
          <p:spPr>
            <a:xfrm>
              <a:off x="2847240" y="3261600"/>
              <a:ext cx="114912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7" name="Rectangle 11"/>
            <p:cNvSpPr/>
            <p:nvPr/>
          </p:nvSpPr>
          <p:spPr>
            <a:xfrm>
              <a:off x="4004280" y="3261600"/>
              <a:ext cx="115056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8" name="Rectangle 12"/>
            <p:cNvSpPr/>
            <p:nvPr/>
          </p:nvSpPr>
          <p:spPr>
            <a:xfrm>
              <a:off x="5158440" y="3261600"/>
              <a:ext cx="115056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9" name="Rectangle 13"/>
            <p:cNvSpPr/>
            <p:nvPr/>
          </p:nvSpPr>
          <p:spPr>
            <a:xfrm>
              <a:off x="6316920" y="3261600"/>
              <a:ext cx="219780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0" name="Rectangle 14"/>
            <p:cNvSpPr/>
            <p:nvPr/>
          </p:nvSpPr>
          <p:spPr>
            <a:xfrm>
              <a:off x="539640" y="3814200"/>
              <a:ext cx="2301120" cy="54720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Severe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1" name="Rectangle 15"/>
            <p:cNvSpPr/>
            <p:nvPr/>
          </p:nvSpPr>
          <p:spPr>
            <a:xfrm>
              <a:off x="2847240" y="3814200"/>
              <a:ext cx="114912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2" name="Rectangle 16"/>
            <p:cNvSpPr/>
            <p:nvPr/>
          </p:nvSpPr>
          <p:spPr>
            <a:xfrm>
              <a:off x="4004280" y="381420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+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3" name="Rectangle 17"/>
            <p:cNvSpPr/>
            <p:nvPr/>
          </p:nvSpPr>
          <p:spPr>
            <a:xfrm>
              <a:off x="5158440" y="381420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4" name="Rectangle 18"/>
            <p:cNvSpPr/>
            <p:nvPr/>
          </p:nvSpPr>
          <p:spPr>
            <a:xfrm>
              <a:off x="6316920" y="3814200"/>
              <a:ext cx="219780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0,5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5" name="Rectangle 19"/>
            <p:cNvSpPr/>
            <p:nvPr/>
          </p:nvSpPr>
          <p:spPr>
            <a:xfrm>
              <a:off x="539640" y="4367880"/>
              <a:ext cx="2301120" cy="54720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Mild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6" name="Rectangle 20"/>
            <p:cNvSpPr/>
            <p:nvPr/>
          </p:nvSpPr>
          <p:spPr>
            <a:xfrm>
              <a:off x="2847240" y="4367880"/>
              <a:ext cx="114912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7" name="Rectangle 21"/>
            <p:cNvSpPr/>
            <p:nvPr/>
          </p:nvSpPr>
          <p:spPr>
            <a:xfrm>
              <a:off x="4004280" y="4367880"/>
              <a:ext cx="115056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8" name="Rectangle 22"/>
            <p:cNvSpPr/>
            <p:nvPr/>
          </p:nvSpPr>
          <p:spPr>
            <a:xfrm>
              <a:off x="5158440" y="4367880"/>
              <a:ext cx="115056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9" name="Rectangle 23"/>
            <p:cNvSpPr/>
            <p:nvPr/>
          </p:nvSpPr>
          <p:spPr>
            <a:xfrm>
              <a:off x="6316920" y="4367880"/>
              <a:ext cx="219780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0" name="Rectangle 24"/>
            <p:cNvSpPr/>
            <p:nvPr/>
          </p:nvSpPr>
          <p:spPr>
            <a:xfrm>
              <a:off x="539640" y="4923360"/>
              <a:ext cx="2301120" cy="54720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Severe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1" name="Rectangle 25"/>
            <p:cNvSpPr/>
            <p:nvPr/>
          </p:nvSpPr>
          <p:spPr>
            <a:xfrm>
              <a:off x="2847240" y="4923360"/>
              <a:ext cx="114912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2" name="Rectangle 26"/>
            <p:cNvSpPr/>
            <p:nvPr/>
          </p:nvSpPr>
          <p:spPr>
            <a:xfrm>
              <a:off x="4004280" y="492336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3" name="Rectangle 27"/>
            <p:cNvSpPr/>
            <p:nvPr/>
          </p:nvSpPr>
          <p:spPr>
            <a:xfrm>
              <a:off x="5158440" y="492336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+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4" name="Rectangle 28"/>
            <p:cNvSpPr/>
            <p:nvPr/>
          </p:nvSpPr>
          <p:spPr>
            <a:xfrm>
              <a:off x="6316920" y="4923360"/>
              <a:ext cx="219780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1,5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5" name="Rectangle 29"/>
            <p:cNvSpPr/>
            <p:nvPr/>
          </p:nvSpPr>
          <p:spPr>
            <a:xfrm>
              <a:off x="539640" y="5478480"/>
              <a:ext cx="2301120" cy="54756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Mild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6" name="Rectangle 30"/>
            <p:cNvSpPr/>
            <p:nvPr/>
          </p:nvSpPr>
          <p:spPr>
            <a:xfrm>
              <a:off x="2847240" y="5478480"/>
              <a:ext cx="1149120" cy="5475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7" name="Rectangle 31"/>
            <p:cNvSpPr/>
            <p:nvPr/>
          </p:nvSpPr>
          <p:spPr>
            <a:xfrm>
              <a:off x="4004280" y="5478480"/>
              <a:ext cx="1150560" cy="5475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8" name="Rectangle 32"/>
            <p:cNvSpPr/>
            <p:nvPr/>
          </p:nvSpPr>
          <p:spPr>
            <a:xfrm>
              <a:off x="5158440" y="5478480"/>
              <a:ext cx="1150560" cy="5475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9" name="Rectangle 33"/>
            <p:cNvSpPr/>
            <p:nvPr/>
          </p:nvSpPr>
          <p:spPr>
            <a:xfrm>
              <a:off x="6316920" y="5478480"/>
              <a:ext cx="2197800" cy="5475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0" name="Rectangle 34"/>
            <p:cNvSpPr/>
            <p:nvPr/>
          </p:nvSpPr>
          <p:spPr>
            <a:xfrm>
              <a:off x="539640" y="6034320"/>
              <a:ext cx="2301120" cy="54720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Severe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1" name="Rectangle 35"/>
            <p:cNvSpPr/>
            <p:nvPr/>
          </p:nvSpPr>
          <p:spPr>
            <a:xfrm>
              <a:off x="2847240" y="6034320"/>
              <a:ext cx="114912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2" name="Rectangle 36"/>
            <p:cNvSpPr/>
            <p:nvPr/>
          </p:nvSpPr>
          <p:spPr>
            <a:xfrm>
              <a:off x="4004280" y="603432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3" name="Rectangle 37"/>
            <p:cNvSpPr/>
            <p:nvPr/>
          </p:nvSpPr>
          <p:spPr>
            <a:xfrm>
              <a:off x="5158440" y="603432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4" name="Rectangle 38"/>
            <p:cNvSpPr/>
            <p:nvPr/>
          </p:nvSpPr>
          <p:spPr>
            <a:xfrm>
              <a:off x="6316920" y="6034320"/>
              <a:ext cx="219780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3,5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5" name="Line 39"/>
            <p:cNvSpPr/>
            <p:nvPr/>
          </p:nvSpPr>
          <p:spPr>
            <a:xfrm>
              <a:off x="2847240" y="1557360"/>
              <a:ext cx="0" cy="11412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6" name="Line 40"/>
            <p:cNvSpPr/>
            <p:nvPr/>
          </p:nvSpPr>
          <p:spPr>
            <a:xfrm>
              <a:off x="2847240" y="2707920"/>
              <a:ext cx="0" cy="54720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7" name="Line 41"/>
            <p:cNvSpPr/>
            <p:nvPr/>
          </p:nvSpPr>
          <p:spPr>
            <a:xfrm>
              <a:off x="2847240" y="3261600"/>
              <a:ext cx="0" cy="33184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8" name="Line 42"/>
            <p:cNvSpPr/>
            <p:nvPr/>
          </p:nvSpPr>
          <p:spPr>
            <a:xfrm>
              <a:off x="4004280" y="2707920"/>
              <a:ext cx="0" cy="3873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9" name="Line 43"/>
            <p:cNvSpPr/>
            <p:nvPr/>
          </p:nvSpPr>
          <p:spPr>
            <a:xfrm>
              <a:off x="5158440" y="2707920"/>
              <a:ext cx="0" cy="3873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0" name="Line 44"/>
            <p:cNvSpPr/>
            <p:nvPr/>
          </p:nvSpPr>
          <p:spPr>
            <a:xfrm>
              <a:off x="6316920" y="1557360"/>
              <a:ext cx="0" cy="11412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1" name="Line 45"/>
            <p:cNvSpPr/>
            <p:nvPr/>
          </p:nvSpPr>
          <p:spPr>
            <a:xfrm>
              <a:off x="6316920" y="2707920"/>
              <a:ext cx="0" cy="54720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2" name="Line 46"/>
            <p:cNvSpPr/>
            <p:nvPr/>
          </p:nvSpPr>
          <p:spPr>
            <a:xfrm>
              <a:off x="6316920" y="3261600"/>
              <a:ext cx="0" cy="33184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3" name="Line 47"/>
            <p:cNvSpPr/>
            <p:nvPr/>
          </p:nvSpPr>
          <p:spPr>
            <a:xfrm>
              <a:off x="2847240" y="2707920"/>
              <a:ext cx="346140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4" name="Line 48"/>
            <p:cNvSpPr/>
            <p:nvPr/>
          </p:nvSpPr>
          <p:spPr>
            <a:xfrm>
              <a:off x="539640" y="3261600"/>
              <a:ext cx="230112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5" name="Line 49"/>
            <p:cNvSpPr/>
            <p:nvPr/>
          </p:nvSpPr>
          <p:spPr>
            <a:xfrm>
              <a:off x="2847240" y="3261600"/>
              <a:ext cx="34614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6" name="Line 50"/>
            <p:cNvSpPr/>
            <p:nvPr/>
          </p:nvSpPr>
          <p:spPr>
            <a:xfrm>
              <a:off x="6316920" y="3261600"/>
              <a:ext cx="219780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7" name="Line 51"/>
            <p:cNvSpPr/>
            <p:nvPr/>
          </p:nvSpPr>
          <p:spPr>
            <a:xfrm>
              <a:off x="539640" y="3814200"/>
              <a:ext cx="797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8" name="Line 52"/>
            <p:cNvSpPr/>
            <p:nvPr/>
          </p:nvSpPr>
          <p:spPr>
            <a:xfrm>
              <a:off x="539640" y="4367880"/>
              <a:ext cx="797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9" name="Line 53"/>
            <p:cNvSpPr/>
            <p:nvPr/>
          </p:nvSpPr>
          <p:spPr>
            <a:xfrm>
              <a:off x="539640" y="4923360"/>
              <a:ext cx="797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0" name="Line 54"/>
            <p:cNvSpPr/>
            <p:nvPr/>
          </p:nvSpPr>
          <p:spPr>
            <a:xfrm>
              <a:off x="539640" y="5478480"/>
              <a:ext cx="797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1" name="Line 55"/>
            <p:cNvSpPr/>
            <p:nvPr/>
          </p:nvSpPr>
          <p:spPr>
            <a:xfrm>
              <a:off x="539640" y="6034320"/>
              <a:ext cx="797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2" name="Line 56"/>
            <p:cNvSpPr/>
            <p:nvPr/>
          </p:nvSpPr>
          <p:spPr>
            <a:xfrm>
              <a:off x="539640" y="1557360"/>
              <a:ext cx="0" cy="50245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3" name="Line 57"/>
            <p:cNvSpPr/>
            <p:nvPr/>
          </p:nvSpPr>
          <p:spPr>
            <a:xfrm>
              <a:off x="8524800" y="1557360"/>
              <a:ext cx="0" cy="50245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4" name="Line 58"/>
            <p:cNvSpPr/>
            <p:nvPr/>
          </p:nvSpPr>
          <p:spPr>
            <a:xfrm>
              <a:off x="539640" y="1557360"/>
              <a:ext cx="797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5" name="Line 59"/>
            <p:cNvSpPr/>
            <p:nvPr/>
          </p:nvSpPr>
          <p:spPr>
            <a:xfrm>
              <a:off x="539640" y="6589800"/>
              <a:ext cx="797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600" spc="-1" strike="noStrike">
                <a:solidFill>
                  <a:srgbClr val="f0000c"/>
                </a:solidFill>
                <a:latin typeface="Verdana"/>
              </a:rPr>
              <a:t>EM </a:t>
            </a:r>
            <a:r>
              <a:rPr b="1" lang="en-US" sz="2600" spc="-1" strike="noStrike">
                <a:solidFill>
                  <a:srgbClr val="f0000c"/>
                </a:solidFill>
                <a:latin typeface="Verdana"/>
              </a:rPr>
              <a:t>SPECTRUM ACCORDING TO THE WAVELENGTH OF ACTIVE</a:t>
            </a:r>
            <a:r>
              <a:rPr b="1" lang="de-DE" sz="2600" spc="-1" strike="noStrike">
                <a:solidFill>
                  <a:srgbClr val="f0000c"/>
                </a:solidFill>
                <a:latin typeface="Verdana"/>
              </a:rPr>
              <a:t> ЕМ </a:t>
            </a:r>
            <a:r>
              <a:rPr b="1" lang="en-US" sz="2600" spc="-1" strike="noStrike">
                <a:solidFill>
                  <a:srgbClr val="f0000c"/>
                </a:solidFill>
                <a:latin typeface="Verdana"/>
              </a:rPr>
              <a:t>RAY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5905440" cy="38163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3"/>
          <p:cNvSpPr/>
          <p:nvPr/>
        </p:nvSpPr>
        <p:spPr>
          <a:xfrm>
            <a:off x="2530080" y="2013120"/>
            <a:ext cx="270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282480" y="1969920"/>
            <a:ext cx="383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V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1670400" y="1890720"/>
            <a:ext cx="261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ᵞ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5075280" y="1984320"/>
            <a:ext cx="3286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5622840" y="1984320"/>
            <a:ext cx="592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cr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6263280" y="1969920"/>
            <a:ext cx="997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adiowav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UV DO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berythem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os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in children ⅛ of biodosis, in adults ¼, 1/3 or ½ of biodos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just perceptible rednes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rythem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ose 1-3 biodose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rythem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ypererythem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-5 biodose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intensive erythema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, bulla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rely applied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skin diseases with  thickened epidermal stratum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UV DO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berythem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os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in children ⅛ of biodosis, in adults ¼, 1/3 or ½ of biodos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just perceptible rednes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rythem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ose 1-3 biodose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rythem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ypererythem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-5 biodose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intensive erythema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, bulla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rely applied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skin diseases with  thickened epidermal stratum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JURIES CAUSED BY UV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ratoconjunctivitis ("snow blindness") when looking directly at the source of radiation;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earing protective glas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rns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hen radiation exposure is overdos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ancerous and cancerous skin lesions (important for cosmetology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dications for GENERAL </a:t>
            </a: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applic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Reconvalesc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Anem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Osteoporo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Osteomalac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Rachi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Osteomyeli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dications for LOCAL </a:t>
            </a: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applic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Text Box 2"/>
          <p:cNvSpPr/>
          <p:nvPr/>
        </p:nvSpPr>
        <p:spPr>
          <a:xfrm>
            <a:off x="457200" y="1413000"/>
            <a:ext cx="84358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ki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diseases - alopecia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soriasi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ecubitu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Neurological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iseases - neuralgia, neuriti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, cervical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Sy, lumbar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Sy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Rheumatological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iseases – degenerative rheumatism,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extraarticular rheumatism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Orthopedics –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conditions after bone fractures, soft-tissue injurie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Gynecological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iseases – adnexitis, dysmenorrhea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Vascular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urgery – vascular-based torpid wounds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lcus cruri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Ophthalmology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- blepharitis, trachoma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CONTRA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457200" y="1628640"/>
            <a:ext cx="81439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tive pulmonary tuberculos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yperthyroidis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abet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Psychiatric diseas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vanced cachexia 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Photogenic skin diseases - pellagra, lupu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l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Malignant skin tumo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Roentgen dermat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Hypervitaminosis B1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531720" y="2924280"/>
            <a:ext cx="836136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INFRARED RAY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Line 2"/>
          <p:cNvSpPr/>
          <p:nvPr/>
        </p:nvSpPr>
        <p:spPr>
          <a:xfrm>
            <a:off x="531720" y="4292640"/>
            <a:ext cx="8143920" cy="1440"/>
          </a:xfrm>
          <a:prstGeom prst="line">
            <a:avLst/>
          </a:prstGeom>
          <a:ln cap="sq" w="38160">
            <a:solidFill>
              <a:srgbClr val="f0000c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FRARED RAY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457200" y="3000240"/>
            <a:ext cx="814392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96840" indent="-33804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83640"/>
                <a:tab algn="l" pos="1014084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hort IR rays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770 - 1500 nm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96840" indent="-33804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83640"/>
                <a:tab algn="l" pos="1014084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Long I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ray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1500 n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968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83640"/>
                <a:tab algn="l" pos="1014084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96840" indent="-33804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83640"/>
                <a:tab algn="l" pos="1014084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Verdana"/>
              </a:rPr>
              <a:t>Penetration</a:t>
            </a:r>
            <a:r>
              <a:rPr b="1" lang="sr-CS" sz="2400" spc="-1" strike="noStrike">
                <a:solidFill>
                  <a:srgbClr val="ff0000"/>
                </a:solidFill>
                <a:latin typeface="Verdana"/>
              </a:rPr>
              <a:t>: 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0,5-10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12" name="Group 3"/>
          <p:cNvGrpSpPr/>
          <p:nvPr/>
        </p:nvGrpSpPr>
        <p:grpSpPr>
          <a:xfrm>
            <a:off x="538200" y="1773360"/>
            <a:ext cx="8058600" cy="1906560"/>
            <a:chOff x="538200" y="1773360"/>
            <a:chExt cx="8058600" cy="1906560"/>
          </a:xfrm>
        </p:grpSpPr>
        <p:cxnSp>
          <p:nvCxnSpPr>
            <p:cNvPr id="413" name="AutoShape 4"/>
            <p:cNvCxnSpPr/>
            <p:nvPr/>
          </p:nvCxnSpPr>
          <p:spPr>
            <a:xfrm>
              <a:off x="538200" y="2133360"/>
              <a:ext cx="8058960" cy="108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</p:cxnSp>
        <p:cxnSp>
          <p:nvCxnSpPr>
            <p:cNvPr id="414" name="AutoShape 5"/>
            <p:cNvCxnSpPr/>
            <p:nvPr/>
          </p:nvCxnSpPr>
          <p:spPr>
            <a:xfrm>
              <a:off x="538200" y="2926080"/>
              <a:ext cx="8058960" cy="108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</p:cxnSp>
        <p:sp>
          <p:nvSpPr>
            <p:cNvPr id="415" name="Line 6"/>
            <p:cNvSpPr/>
            <p:nvPr/>
          </p:nvSpPr>
          <p:spPr>
            <a:xfrm>
              <a:off x="214632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6" name="Line 7"/>
            <p:cNvSpPr/>
            <p:nvPr/>
          </p:nvSpPr>
          <p:spPr>
            <a:xfrm>
              <a:off x="374328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7" name="Line 8"/>
            <p:cNvSpPr/>
            <p:nvPr/>
          </p:nvSpPr>
          <p:spPr>
            <a:xfrm>
              <a:off x="533700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8" name="Line 9"/>
            <p:cNvSpPr/>
            <p:nvPr/>
          </p:nvSpPr>
          <p:spPr>
            <a:xfrm>
              <a:off x="693576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9" name="Text Box 10"/>
            <p:cNvSpPr/>
            <p:nvPr/>
          </p:nvSpPr>
          <p:spPr>
            <a:xfrm>
              <a:off x="3985920" y="1773360"/>
              <a:ext cx="13878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1500 - 3000 nm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712480" y="1785960"/>
              <a:ext cx="10080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 3000 nm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1" name="Text Box 12"/>
            <p:cNvSpPr/>
            <p:nvPr/>
          </p:nvSpPr>
          <p:spPr>
            <a:xfrm>
              <a:off x="2390400" y="1773360"/>
              <a:ext cx="129312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770 - 1500 nm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2" name="Text Box 13"/>
            <p:cNvSpPr/>
            <p:nvPr/>
          </p:nvSpPr>
          <p:spPr>
            <a:xfrm>
              <a:off x="577440" y="3069360"/>
              <a:ext cx="767520" cy="61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VISIBLE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LIGHT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7283880" y="3069360"/>
              <a:ext cx="12582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MICROWAVES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4" name="Text Box 15"/>
            <p:cNvSpPr/>
            <p:nvPr/>
          </p:nvSpPr>
          <p:spPr>
            <a:xfrm>
              <a:off x="4229640" y="2364120"/>
              <a:ext cx="51768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IR-B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5" name="Text Box 16"/>
            <p:cNvSpPr/>
            <p:nvPr/>
          </p:nvSpPr>
          <p:spPr>
            <a:xfrm>
              <a:off x="5910840" y="2364120"/>
              <a:ext cx="5115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IR-C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6" name="Text Box 17"/>
            <p:cNvSpPr/>
            <p:nvPr/>
          </p:nvSpPr>
          <p:spPr>
            <a:xfrm>
              <a:off x="2664720" y="2364120"/>
              <a:ext cx="5205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IR-А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SOURCES OF</a:t>
            </a: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 IR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Natural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source is sunligh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rtificial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ource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„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Sollux"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lamp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eater reflector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(emission of long wav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Light baths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(full, semi, partial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ARTIFICIAL SOURCES OF </a:t>
            </a: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IR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3924360" y="1773360"/>
            <a:ext cx="3600360" cy="4751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" descr=""/>
          <p:cNvPicPr/>
          <p:nvPr/>
        </p:nvPicPr>
        <p:blipFill>
          <a:blip r:embed="rId2"/>
          <a:stretch/>
        </p:blipFill>
        <p:spPr>
          <a:xfrm>
            <a:off x="755640" y="2276640"/>
            <a:ext cx="338472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TYPES OF PHOT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liotherap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the use of natural sunli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romotherap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action of certain colors from the visible spectru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ltraviolet rays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UV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ys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rared rays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IR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ys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erotherapy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LASE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- Light Amplification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y Stimulated Emission of Radiatio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PHYSIOLOGICAL EFFECT OF IR RADIATIO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Е of the photon of IR ra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olecular excitation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A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crease of the local tissue tº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Local reac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erythem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(without latent period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 thermal, inhomogenous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 unclearly demarcated, more intense along the capillaries, short-lasting, lost completely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pigment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PHYSIOLOGICAL EFFECT OF IR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0000c"/>
                </a:solidFill>
                <a:latin typeface="Verdana"/>
              </a:rPr>
              <a:t>Reflexive reac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Vasodilation involving also deeper tissu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(via cutivisceral Rf, via Head zones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Consensual rea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0000c"/>
                </a:solidFill>
                <a:latin typeface="Verdana"/>
              </a:rPr>
              <a:t>General reactio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he organism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Btº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sweatin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breath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heart r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Т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THERAPEUTIC EFFECT OF IR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nalges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edematous effe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Spasmolitic effe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ophic (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granul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SYNERGISM AND ANTAGONISM OF IR AND UV RAY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ynergis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- IR rays applied simulateneously or before UV rays </a:t>
            </a:r>
            <a:r>
              <a:rPr b="1" lang="en-US" sz="2400" spc="-1" strike="noStrike">
                <a:solidFill>
                  <a:srgbClr val="f0000c"/>
                </a:solidFill>
                <a:latin typeface="Verdana"/>
              </a:rPr>
              <a:t>increase the effec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UV ray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tagonis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IR rays applied after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V rays </a:t>
            </a:r>
            <a:r>
              <a:rPr b="1" lang="en-US" sz="2400" spc="-1" strike="noStrike">
                <a:solidFill>
                  <a:srgbClr val="f0000c"/>
                </a:solidFill>
                <a:latin typeface="Verdana"/>
              </a:rPr>
              <a:t>decrease the effect of UV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ay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R radiation from the lamp is the most efficient method of burn prevention, if UV radiation is overdosed (if used before the develop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rythema!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APPLICATION TECHNIQUE  AND DO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dependent (rarely) or introductory (more common) proced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pidermal defects are not a contraindi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he patient wears protective glasses (cataract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osing </a:t>
            </a:r>
            <a:r>
              <a:rPr b="1" lang="de-DE" sz="2400" spc="-1" strike="noStrike">
                <a:solidFill>
                  <a:srgbClr val="ff0000"/>
                </a:solidFill>
                <a:latin typeface="Verdana"/>
              </a:rPr>
              <a:t>according to subjective feel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Exposure time 5-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(20)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mi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ries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10-15 days,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pause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10 day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1"/>
          <p:cNvSpPr/>
          <p:nvPr/>
        </p:nvSpPr>
        <p:spPr>
          <a:xfrm>
            <a:off x="274680" y="457200"/>
            <a:ext cx="87328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APPLICATION TECHNIQUE 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DO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457200" y="1584360"/>
            <a:ext cx="836280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OSE 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radiation </a:t>
            </a:r>
            <a:r>
              <a:rPr b="1" lang="de-DE" sz="1800" spc="-1" strike="noStrike" u="sng">
                <a:solidFill>
                  <a:srgbClr val="ff0000"/>
                </a:solidFill>
                <a:uFillTx/>
                <a:latin typeface="Verdana"/>
              </a:rPr>
              <a:t>intensity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 x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cos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 of the angle of incidence x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sr-Latn-R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sr-Latn-R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sr-Latn-R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de-DE" sz="1800" spc="-1" strike="noStrike" u="sng">
                <a:solidFill>
                  <a:srgbClr val="ff0000"/>
                </a:solidFill>
                <a:uFillTx/>
                <a:latin typeface="Verdana"/>
              </a:rPr>
              <a:t>duration time</a:t>
            </a:r>
            <a:r>
              <a:rPr b="1" lang="sr-Latn-RS" sz="1800" spc="-1" strike="noStrike" u="sng">
                <a:solidFill>
                  <a:srgbClr val="ff0000"/>
                </a:solidFill>
                <a:uFillTx/>
                <a:latin typeface="Verdana"/>
              </a:rPr>
              <a:t> </a:t>
            </a:r>
            <a:r>
              <a:rPr b="1" lang="de-DE" sz="1800" spc="-1" strike="noStrike" u="sng">
                <a:solidFill>
                  <a:srgbClr val="ff0000"/>
                </a:solidFill>
                <a:uFillTx/>
                <a:latin typeface="Verdana"/>
              </a:rPr>
              <a:t>distance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from the source</a:t>
            </a:r>
            <a:r>
              <a:rPr b="0" lang="de-DE" sz="1800" spc="-1" strike="noStrike" baseline="33000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LOCAL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he source is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at a smaller distance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rom the bod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GENERAL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he source is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at a greater distance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from the bod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rapping after the therapy (an independent procedure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JURIES CAUSED BY IR EFFEC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tarac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during long eye exposure to IR radiation;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rotective glass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voding looking directly at the sour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ur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79560" indent="-27468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ypesthesis in neurological diseas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979560" indent="-27468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Inadequate lamp handling (direct contact with the skin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Introduction to e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lectrostimulation, stable galvanization, electroforesis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traction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, kryotherapy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Lesions of the PMN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yalgia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neuralgi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Post-traumatic conditions of the soft tissues 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(after</a:t>
            </a:r>
            <a:r>
              <a:rPr b="1" lang="sr-Latn-CS" sz="2200" spc="-1" strike="noStrike">
                <a:solidFill>
                  <a:srgbClr val="000000"/>
                </a:solidFill>
                <a:latin typeface="Verdana"/>
              </a:rPr>
              <a:t> 48 h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egenerative and extra-articular rheumatis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kin diseases (acne, furunculi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fungal diseas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herpe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ubitus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Pain after a tooth extrac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Frontal and maxillary sinus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CONTRA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Acute skin and joint inflamm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ve tuberculo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cclusive arterial disea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kin anesthesia to thermal stimul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Eczema, dermatitis.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1"/>
          <p:cNvSpPr/>
          <p:nvPr/>
        </p:nvSpPr>
        <p:spPr>
          <a:xfrm>
            <a:off x="457200" y="9216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800"/>
            </a:b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DIAGNOSTIC USE OF IR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Thermograph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s photograph registration of the skin temperature - thermogram. It indicates the state of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Verdana"/>
              </a:rPr>
              <a:t>circulation in the epidermi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— it depicts the condition of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аrterial blood vessels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flow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Thermovision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provides d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stribution of surface body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temperature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n a short tim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2" name="Picture 3" descr=""/>
          <p:cNvPicPr/>
          <p:nvPr/>
        </p:nvPicPr>
        <p:blipFill>
          <a:blip r:embed="rId1"/>
          <a:stretch/>
        </p:blipFill>
        <p:spPr>
          <a:xfrm>
            <a:off x="2563920" y="3429000"/>
            <a:ext cx="434340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"/>
          <p:cNvSpPr/>
          <p:nvPr/>
        </p:nvSpPr>
        <p:spPr>
          <a:xfrm>
            <a:off x="531720" y="2924280"/>
            <a:ext cx="836136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ELIOTHERAP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Line 2"/>
          <p:cNvSpPr/>
          <p:nvPr/>
        </p:nvSpPr>
        <p:spPr>
          <a:xfrm>
            <a:off x="531720" y="4292640"/>
            <a:ext cx="8143920" cy="1440"/>
          </a:xfrm>
          <a:prstGeom prst="line">
            <a:avLst/>
          </a:prstGeom>
          <a:ln cap="sq" w="38160">
            <a:solidFill>
              <a:srgbClr val="f0000c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DIAGNOSTIC USE OF IR RADIATION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Text Box 2"/>
          <p:cNvSpPr/>
          <p:nvPr/>
        </p:nvSpPr>
        <p:spPr>
          <a:xfrm>
            <a:off x="457200" y="1844640"/>
            <a:ext cx="81439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frared photography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Short IR rays directed at the skin show the state of the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venous system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(arterial blood vessels are not seen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It is used for the diagnostics of the venous circulation in the mammary glands, circulation during gravidity and post-partum, venous circulation in portal hypertension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HELI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95280" y="1052640"/>
            <a:ext cx="828036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128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nlight contain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45-5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0% of IC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48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% of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visible light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1-3% of UV and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2% of other ray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effect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 the Sun depends on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The seas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Part of the day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in the zenith its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intensity is about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 times stronger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Above-sea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Thickness of the air lay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Cloudin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Air pollution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dust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 smoke, soot, water steam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 other particles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PHOTOSENSITIV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cal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sitivit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kin of the chest, back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abdomen and flexor sides of the extremiti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dividual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sitivit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nder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hysiological condition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gnancy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breast feed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br>
              <a:rPr sz="1800"/>
            </a:b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igmentation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seases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inism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M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br>
              <a:rPr sz="1800"/>
            </a:b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ce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 of photosensitizers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ody region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PHYSIOLOGICAL SUN EFFEC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457200" y="1413000"/>
            <a:ext cx="81439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ment of immunobiological reaction of the organis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algesic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ment of the skin turgo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ed exchange of gass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lance of the vegetative nervous syste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e of the </a:t>
            </a:r>
            <a:r>
              <a:rPr b="1" lang="sr-Latn-CS" sz="2200" spc="-1" strike="noStrike">
                <a:solidFill>
                  <a:srgbClr val="000000"/>
                </a:solidFill>
                <a:latin typeface="Verdana"/>
              </a:rPr>
              <a:t>Hgb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level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blood element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ion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itamin 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rmalization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a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P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the tissues etc.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DO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250920" y="1484280"/>
            <a:ext cx="35290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nbathing scheme by Rolli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ximum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3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de effect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r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ratoconjunctivit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nstrok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cancerous and cancerous les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4389480" y="1279440"/>
            <a:ext cx="4371840" cy="4753080"/>
            <a:chOff x="4389480" y="1279440"/>
            <a:chExt cx="4371840" cy="4753080"/>
          </a:xfrm>
        </p:grpSpPr>
        <p:pic>
          <p:nvPicPr>
            <p:cNvPr id="274" name="Picture 4" descr=""/>
            <p:cNvPicPr/>
            <p:nvPr/>
          </p:nvPicPr>
          <p:blipFill>
            <a:blip r:embed="rId1"/>
            <a:stretch/>
          </p:blipFill>
          <p:spPr>
            <a:xfrm>
              <a:off x="4389480" y="1279440"/>
              <a:ext cx="4295880" cy="475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5"/>
            <p:cNvSpPr/>
            <p:nvPr/>
          </p:nvSpPr>
          <p:spPr>
            <a:xfrm>
              <a:off x="7010280" y="1484280"/>
              <a:ext cx="129384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D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8381880" y="2819520"/>
              <a:ext cx="379440" cy="23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Minutes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5T21:33:56Z</dcterms:created>
  <dc:creator>+++</dc:creator>
  <dc:description/>
  <dc:language>en-US</dc:language>
  <cp:lastModifiedBy>Nada Miklja</cp:lastModifiedBy>
  <dcterms:modified xsi:type="dcterms:W3CDTF">2023-09-26T09:23:30Z</dcterms:modified>
  <cp:revision>940</cp:revision>
  <dc:subject/>
  <dc:title>PowerPoint-Präsentation</dc:title>
</cp:coreProperties>
</file>